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C1DCE-37B7-44D2-B027-85967619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734C7-B28B-4B33-9C1C-D22E0EFFC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28BDA-0AF3-4562-ABCB-8052CF745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EF91E-D166-440C-BBA4-240DF35BD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04DC8-7D3C-4AA7-A50C-85E2AB5A6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E0848-676C-4908-884E-11B511B93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C80BF-A029-46A3-AFF9-F1F80F616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02059-78DF-4DE2-A815-36CCE924B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F8EC7-35C3-4461-8B1A-C7AB18DF4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DAB14-D089-4201-BBC8-4AA5D5B07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92774-F558-4B13-B4FB-1037C40A4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C1C9-3854-4FAE-9C10-DC575B42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6AC1D-CCA3-4DF7-AC89-8C7C8F34E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4EDE9-82EC-4553-8FE3-A5DC80B76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35633-A99E-447D-BA5E-2FD613FD0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0F777-DC2D-477B-8F28-0BEE68880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6CE8D-2022-4547-AE8B-4FD847E68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5F9A0-14EC-4E35-81DD-534C460A4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C6BD1-7BF8-442D-92C4-2D13969B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2F18-B415-4B68-8BBD-14CCDAE9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87DF-6463-44C1-AD24-392617CD1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2DF7-F2E8-470A-B89F-76D9CEA8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78DE-6D0C-4CAF-B4EB-693F0C0A0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810E-E89A-4151-989D-5612149F2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6369-6DEA-4C77-916B-593BE315E6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1D92-65FA-42AB-8AA3-F699BCB539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ise Afrika, Arise!</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ole, Eli and Abbi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itle</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r prediction on this poem is people are going to be rising from the dead in Afrika.</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araphrase </a:t>
            </a:r>
            <a:endParaRPr b="0" lang="en-US" sz="4400" spc="-1" strike="noStrike">
              <a:solidFill>
                <a:srgbClr val="b7e7ff"/>
              </a:solidFill>
              <a:latin typeface="Arial"/>
            </a:endParaRPr>
          </a:p>
        </p:txBody>
      </p:sp>
      <p:sp>
        <p:nvSpPr>
          <p:cNvPr id="87" name="PlaceHolder 2"/>
          <p:cNvSpPr>
            <a:spLocks noGrp="1"/>
          </p:cNvSpPr>
          <p:nvPr>
            <p:ph type="subTitle"/>
          </p:nvPr>
        </p:nvSpPr>
        <p:spPr>
          <a:xfrm>
            <a:off x="1066320" y="2209680"/>
            <a:ext cx="6705720" cy="37339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e Afrika, Arise is about AIDS spreading through sexual intercourse and how people have died over the disease AIDS that have been spread. The people of Afrika try to make a pact to stop the spread of AIDS and encourage abstinence. Many men and women have died from the disease AIDS, that is why the people of Afrika are trying to make a pact.</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notation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dead man wears a casket” Is a part in the poem that means the dead man is in the casket and will remain there forever because of the disease AIDS. </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day AIDS laughed with reddened teeth” this is another part of the poem which means in this day of age AIDS are laughing at the people who have died from AIDS. They wouldn’t use protec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ttitude</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et- the poet is trying to get across to the readers that AIDS is spreading more and more each day, and Afrika needs to reduce thi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the speaker tries to get a pact going to stop the spread because he realizes that Afrikans are spreading AIDS.</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ift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tory started out angry and frustrated because AIDS was striking badly and no one was doing anything about it. At the end of the story, the people of Afrika started easing up because they were trying to form a pact and help the socie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itle</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r prediction was not accurate. We thought people would be rising from the dead. When actually, the people were trying to form a pact to stop the spread of AIDS.</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me</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heme of the story was there is always a consequence for something that is not always right.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9:51:35Z</dcterms:created>
  <dc:creator>User</dc:creator>
  <dc:description/>
  <dc:language>en-US</dc:language>
  <cp:lastModifiedBy>Classroom/Lab</cp:lastModifiedBy>
  <dcterms:modified xsi:type="dcterms:W3CDTF">2010-11-17T19:38:49Z</dcterms:modified>
  <cp:revision>4</cp:revision>
  <dc:subject/>
  <dc:title>Arise Afrika, Arise!</dc:title>
</cp:coreProperties>
</file>